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0D7-1770-4C28-9AEC-993C7A76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BDB-51D2-4D71-9542-7E801D1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319-DCE1-4FA6-ABB4-AD3B2B5E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69A-77FD-43D8-A771-E8BB43B1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D04-8BA8-40AD-8DF9-5AF5F3A5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CA0-34FC-4749-8D58-5354197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69B-B83A-45F4-990A-070581A9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D51-3C65-4121-A47A-B852A30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02B-3335-498E-8B8E-DAAE90E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118-13B9-4E6A-BFC1-C704038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F85-0AA7-4BBF-97A9-4E51201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46E-E7B3-4C92-AC4F-41CF416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1A4-8D72-489A-9296-0AE5DBED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hoffma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34320" y="525312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0"/>
            <a:ext cx="6705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Aspr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1722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d School Pa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offman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282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80392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pir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hoffm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 helps everyone; children, parents, teachers, anyone that has headaches, pains, or a f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three years to establish Aspirin (1897-19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in has multi-purposes such as relieving fever, pain and inflam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duct is the world’s most popular pain kil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in gets its name from “A” for acetyl chloride, “Spir” for spiraea ulmaria, and “In” for the popular medicine suf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in is so gentle that there is no need for a pr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720" y="304920"/>
            <a:ext cx="502920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vention: Aspir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January 21, 1868 in Ludwigsburg,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ix studied pharmacy and chemistry at the University of Munich were he graduated in 1893 with a doctoral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4 he started working as a chemist for Bayer in Elberfeld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father’s arthritis inspired him to create a pain killer that was not harsh on the sto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9 after finishing the creation of Aspirin , he was promoted to the director of pharmaceutical marketi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47920" y="152280"/>
            <a:ext cx="571500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Inventor:Felix Hoffm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1:33Z</dcterms:created>
  <dc:creator>install</dc:creator>
  <dc:description/>
  <dc:language>en-US</dc:language>
  <cp:lastModifiedBy>install</cp:lastModifiedBy>
  <dcterms:modified xsi:type="dcterms:W3CDTF">2010-05-12T17:35:14Z</dcterms:modified>
  <cp:revision>7</cp:revision>
  <dc:subject/>
  <dc:title>Slide 1</dc:title>
</cp:coreProperties>
</file>